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834B-90A6-42FE-A972-870F02A2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81F1-85AC-4961-B120-A2EF757B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nopausemoxie.com/wp-content/uploads/2013/07/estrogen-therapy-and-menopaus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12B9-EC15-46F4-AD68-B0761A82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7D99-3FD4-476A-9DC4-19C28F2F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figures.boundless.com/19750/large/figure-43-03-05.j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FE4D-E693-4DFB-A586-06E46B1A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9E2-0DAB-4660-847E-30AF0FEC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689-E662-4140-A61B-3BC59A40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E7C-652E-4C5C-A513-86D8D11F3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upload.wikimedia.org/wikipedia/commons/thumb/4/44/Gray5.svg/260px-Gray5.sv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3F8C-F9B7-40D6-B0A5-E782EDC6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9D7-2B7A-4439-B12F-BC6DF835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8967-05F3-4B9D-A11B-529CFB9A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5BD-8E6C-474E-8C16-930035C3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ostasisinreproduction.wikispaces.com/Oogenesis+and+Ov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biologydiscussion.com/wp-content/uploads/2013/08/3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4C93-CB6A-460A-838A-B666FD58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i2.cdn.turner.com/cnnnext/dam/assets/130904025408-dnt-ks-selling-pregnancy-tests-00005517-story-to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B91D-2E0A-450A-A934-F2F4A1BA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358-E178-4FA5-897A-FFB522AB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4ED-48C4-46DD-BFA3-5FF59FF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3EC-0322-4807-B514-7D1F3FF4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C50-5B24-42C3-902D-6AA9F72F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85E-3E7F-4087-BC70-F1227CD0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68D-F25B-4D12-81C4-A5DE94AF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CDE-AE58-49B5-8A0E-494B39EC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086-F6DC-415F-B35E-F2A1C1A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523-35F6-476B-955A-D678E37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421-2B8A-4120-B0F0-A68937E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873-7AFE-493D-AE85-7EE13E9D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81F-A4E7-481A-9D68-9C3CCB4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15B4-C3A6-4156-A14F-8BD6E2D1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o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can be reduced by hormone replacement therapy (H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5" descr="estrogen-therapy-and-menopause.jpg"/>
          <p:cNvPicPr/>
          <p:nvPr/>
        </p:nvPicPr>
        <p:blipFill>
          <a:blip r:embed="rId1"/>
          <a:srcRect l="3699" t="0" r="36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s22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9-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, testes produce 130 million fertile sperm each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7" descr="figure-43-03-05.jpe.jpeg"/>
          <p:cNvPicPr/>
          <p:nvPr/>
        </p:nvPicPr>
        <p:blipFill>
          <a:blip r:embed="rId1"/>
          <a:srcRect l="-14839" t="0" r="-1483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le_hormone"/>
          <p:cNvPicPr/>
          <p:nvPr/>
        </p:nvPicPr>
        <p:blipFill>
          <a:blip r:embed="rId1"/>
          <a:stretch/>
        </p:blipFill>
        <p:spPr>
          <a:xfrm>
            <a:off x="1833480" y="609480"/>
            <a:ext cx="547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ro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ostly male hormones (e.g., test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o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 estradi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est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 proge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re produced in different proportions by both males and 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your-guide-female-reproductive-system_Female_Reproductive_System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ary releases oocytes (immature eg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ulation causes completion of meiosis I &amp; fertilization causes completion of meiosi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260px-Gray5.svg.png"/>
          <p:cNvPicPr/>
          <p:nvPr/>
        </p:nvPicPr>
        <p:blipFill>
          <a:blip r:embed="rId1"/>
          <a:srcRect l="-3940" t="0" r="-394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Menstruation Cycle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female_hormone"/>
          <p:cNvPicPr/>
          <p:nvPr/>
        </p:nvPicPr>
        <p:blipFill>
          <a:blip r:embed="rId1"/>
          <a:stretch/>
        </p:blipFill>
        <p:spPr>
          <a:xfrm>
            <a:off x="2654280" y="609480"/>
            <a:ext cx="38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7_46_11_oogenesis"/>
          <p:cNvPicPr/>
          <p:nvPr/>
        </p:nvPicPr>
        <p:blipFill>
          <a:blip r:embed="rId1"/>
          <a:stretch/>
        </p:blipFill>
        <p:spPr>
          <a:xfrm>
            <a:off x="1528920" y="609480"/>
            <a:ext cx="608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rm &amp; egg plasma membranes fuse &amp; sperm releases nit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gg to rel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eventing other sperm from en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ontent Placeholder 8" descr="32.jpg"/>
          <p:cNvPicPr/>
          <p:nvPr/>
        </p:nvPicPr>
        <p:blipFill>
          <a:blip r:embed="rId1"/>
          <a:srcRect l="17007" t="0" r="170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ryo produces human chorionic gonadotropin (h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G keeps corpus luteum from breaking down &amp; suppresses mother’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130904025408-dnt-ks-selling-pregnancy-tests-00005517-story-top.jpg"/>
          <p:cNvPicPr/>
          <p:nvPr/>
        </p:nvPicPr>
        <p:blipFill>
          <a:blip r:embed="rId1"/>
          <a:srcRect l="0" t="-45995" r="0" b="-4599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7-05-05T14:59:36Z</dcterms:modified>
  <cp:revision>157</cp:revision>
  <dc:subject/>
  <dc:title>Hormones that Affect Blood Sugar  &amp; Reproductive Hormones</dc:title>
</cp:coreProperties>
</file>